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9A75-FD81-4DA4-9443-25533B1B9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6298-DFC9-4F91-BEB7-C6FC749D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6D8F-53E5-476B-9648-A0110232B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CD60-BBD3-4622-94F2-EC4B8E6EF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4CAA-2F81-4D48-9148-3758A205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23FA-63C9-44B6-8467-00981CEE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7280-5C2F-43DF-9FA0-C185742AF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0F0C-652F-48F2-91E1-00921C8D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E42F-08F4-479D-8B4F-53CC4A9D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F99D-396D-4ED9-8E2B-ABD5F62B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3924-1F3D-4F4F-AF01-C4A123DA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054C-AC9E-4E2F-9A27-E9B97099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DF96E-B602-412D-A30A-665532E12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4120" y="216000"/>
            <a:ext cx="237024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 N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2040" y="782640"/>
            <a:ext cx="8594640" cy="25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Get the packet by the d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Sit anywhere...for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Begin to fill out the “Who I Am”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 Please hurry. We use time well in this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43160" y="3013200"/>
            <a:ext cx="4743360" cy="3562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895480" y="45720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EXPECT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75040" y="318960"/>
            <a:ext cx="5151240" cy="110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12920" y="322200"/>
            <a:ext cx="1709640" cy="1108080"/>
          </a:xfrm>
          <a:prstGeom prst="roundRect">
            <a:avLst>
              <a:gd name="adj" fmla="val 50000"/>
            </a:avLst>
          </a:prstGeom>
          <a:solidFill>
            <a:srgbClr val="96969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03320" y="291960"/>
            <a:ext cx="23176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65400" y="246384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5400" y="662940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5400" y="558792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65400" y="454644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65400" y="350352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4838760"/>
            <a:ext cx="5029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4. BE A PARTICIPA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379728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3. BE PREPAR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09680" y="171468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1. BE PRES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275580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2. BE PROMP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09680" y="588168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5. BE POLI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indefinite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882880" y="317520"/>
            <a:ext cx="4419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ITEMS EVERYDAY</a:t>
            </a: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75040" y="318960"/>
            <a:ext cx="5151240" cy="110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12920" y="322200"/>
            <a:ext cx="1709640" cy="1108080"/>
          </a:xfrm>
          <a:prstGeom prst="roundRect">
            <a:avLst>
              <a:gd name="adj" fmla="val 50000"/>
            </a:avLst>
          </a:prstGeom>
          <a:solidFill>
            <a:srgbClr val="96969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228600"/>
            <a:ext cx="23176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65400" y="246384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165400" y="558792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65400" y="454644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65400" y="350352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08160" y="4838760"/>
            <a:ext cx="5772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4. LAB NOTEBOOK $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08160" y="379728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3. PEN/PENCI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08160" y="1714680"/>
            <a:ext cx="5257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1. NOTEBOOK/BIN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08160" y="275580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2. CALCULAT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03320" y="291960"/>
            <a:ext cx="23176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indefinite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indefinite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882880" y="3143160"/>
            <a:ext cx="441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CATEGORIES</a:t>
            </a: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75040" y="3144960"/>
            <a:ext cx="5151240" cy="110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312920" y="3147840"/>
            <a:ext cx="1709640" cy="1108080"/>
          </a:xfrm>
          <a:prstGeom prst="roundRect">
            <a:avLst>
              <a:gd name="adj" fmla="val 50000"/>
            </a:avLst>
          </a:prstGeom>
          <a:solidFill>
            <a:srgbClr val="96969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3054240"/>
            <a:ext cx="23176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65400" y="528948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65400" y="632952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108160" y="454032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60% QUIZ/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08160" y="558180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40% LAB/HW/C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03320" y="3117960"/>
            <a:ext cx="23176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914400" y="214200"/>
            <a:ext cx="6219720" cy="1971720"/>
            <a:chOff x="914400" y="214200"/>
            <a:chExt cx="6219720" cy="1971720"/>
          </a:xfrm>
        </p:grpSpPr>
        <p:sp>
          <p:nvSpPr>
            <p:cNvPr id="81" name=""/>
            <p:cNvSpPr/>
            <p:nvPr/>
          </p:nvSpPr>
          <p:spPr>
            <a:xfrm>
              <a:off x="2050200" y="214200"/>
              <a:ext cx="508392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207800" y="644400"/>
              <a:ext cx="1713960" cy="1109880"/>
            </a:xfrm>
            <a:prstGeom prst="roundRect">
              <a:avLst>
                <a:gd name="adj" fmla="val 50000"/>
              </a:avLst>
            </a:prstGeom>
            <a:solidFill>
              <a:srgbClr val="96969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14400" y="542160"/>
              <a:ext cx="2322360" cy="14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888840" y="627120"/>
            <a:ext cx="231804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17640" y="264960"/>
            <a:ext cx="4419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LATE</a:t>
            </a: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ASSIGNM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indefinite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indefinite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22560" y="857160"/>
            <a:ext cx="4419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BATHROOM PASS</a:t>
            </a: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01760" y="858960"/>
            <a:ext cx="5151600" cy="110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0000" y="861840"/>
            <a:ext cx="1709640" cy="1108080"/>
          </a:xfrm>
          <a:prstGeom prst="roundRect">
            <a:avLst>
              <a:gd name="adj" fmla="val 50000"/>
            </a:avLst>
          </a:prstGeom>
          <a:solidFill>
            <a:srgbClr val="96969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17440" y="768240"/>
            <a:ext cx="231804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30400" y="831960"/>
            <a:ext cx="23176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143000" y="3505320"/>
            <a:ext cx="6219720" cy="1971720"/>
            <a:chOff x="1143000" y="3505320"/>
            <a:chExt cx="6219720" cy="1971720"/>
          </a:xfrm>
        </p:grpSpPr>
        <p:sp>
          <p:nvSpPr>
            <p:cNvPr id="92" name=""/>
            <p:cNvSpPr/>
            <p:nvPr/>
          </p:nvSpPr>
          <p:spPr>
            <a:xfrm>
              <a:off x="2278800" y="3505320"/>
              <a:ext cx="508392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36400" y="3935520"/>
              <a:ext cx="1713960" cy="1109880"/>
            </a:xfrm>
            <a:prstGeom prst="roundRect">
              <a:avLst>
                <a:gd name="adj" fmla="val 50000"/>
              </a:avLst>
            </a:prstGeom>
            <a:solidFill>
              <a:srgbClr val="96969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143000" y="3833280"/>
              <a:ext cx="2322360" cy="14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1117440" y="3917880"/>
            <a:ext cx="231804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82880" y="3651120"/>
            <a:ext cx="4419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GRADE FOR CHEATING</a:t>
            </a: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indefinite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9640" y="1190520"/>
            <a:ext cx="8062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Impact"/>
              </a:rPr>
              <a:t>WHAT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Impact"/>
              </a:rPr>
              <a:t>IS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Impact"/>
              </a:rPr>
              <a:t>PHYSICS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01:35:13Z</dcterms:created>
  <dc:creator>Frank Noschese</dc:creator>
  <dc:description/>
  <dc:language>en-US</dc:language>
  <cp:lastModifiedBy>Frank Noschese</cp:lastModifiedBy>
  <dcterms:modified xsi:type="dcterms:W3CDTF">2008-09-03T00:43:32Z</dcterms:modified>
  <cp:revision>17</cp:revision>
  <dc:subject/>
  <dc:title>Slide 1</dc:title>
</cp:coreProperties>
</file>